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2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8EF-23F3-4062-8839-DE324458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DF7-1C64-43A0-ACDF-A0CCE383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7F7-446B-45E4-849C-20AC8880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13-6C83-4FBF-85E1-88B66EDF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6626-D1B8-4C10-BF74-9CF13440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3A9-A9FF-4B2F-AA30-EA656DD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87C-FE22-4201-9215-5A4E3CC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458B-E263-4CA4-89BB-C6F3A12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1BB-CDD5-4870-AE2B-7094279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196F-D946-4C5F-AEAD-4CA9B678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C13D-6992-42EE-BE29-5F8A990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BC7-90C6-4606-9537-0E9646A4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8210-DB3C-4785-BE37-BBCC810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29A-53B9-4731-BC94-A4D6D12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CE06-C901-4B08-9367-79A96BA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2C4-0B98-436F-9ABB-693F509D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B478-D3A9-4E9D-92AE-AD84E63E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8BA4-8072-4537-9F63-C4EA6F8D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69C4-AAB2-4B19-9638-8D4F1C80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681B-D28F-42E1-B14E-3080F03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2057-DF29-4774-9386-8B726606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0CA0-A6E6-490D-8923-287CE3D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A38-EA11-4EF8-AA9F-791AECA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492C-06CA-49CC-BECB-F298D35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B6BA-CC11-4F4E-B9B5-BE3D271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745F-6D17-432D-B4C1-37DAD97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D85E-BAB4-4CF7-B627-E5FC1C9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9066-17A2-4A4E-930E-67D763F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BFD4-20E4-4904-A42B-D2BBDCE5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9110-5388-4374-B5CC-724D51E1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76B02-C175-47B1-8976-C647C7A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C295-4436-42E3-B763-772A9E7B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8155-44AD-41B7-94A6-83E77869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785-A98F-403A-B90E-1717E93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4182-89AE-4580-8668-E8A2B34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744C-5225-48BB-AD80-C6A7BF8E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F334-7C17-4DA6-928D-56F8060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80C2-3A70-4C4A-85C6-43130B3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9BB3-52D8-4D0A-A2DF-573B4F3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AC0E-6EBA-445B-8E0B-F58B50F2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6E64-9E78-40BF-B766-1099ABD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1FA6-8F76-46AE-BB23-644FF429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5946-C570-43E8-A15E-998FD6C9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B87-C166-4022-97DD-FC1AB466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7D8-F0B0-45AB-A1CD-FCF5D406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F55-C932-4CA2-A925-E783DA2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2F2-E778-402C-A946-6B40C16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BC3-B6FA-4DB2-98CA-AF031AC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7DF-987D-49B7-9F3D-F9B031589742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Савка Н.В., учитель истории и обществознания МОУ "Февральская СОШ", 2011г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B1D-5F32-4274-BD52-38C4B2E26E2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B82-7D9E-441E-ACA5-0C0498B85574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Савка Н.В., учитель истории и обществознания МОУ "Февральская СОШ", 2011г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7303-235E-4D31-8D28-44CDBB6E01D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B35D-C802-4060-B740-403AA3187AA2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Савка Н.В., учитель истории и обществознания МОУ "Февральская СОШ", 2011г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9247-DDFD-4C66-890A-F2E12AE15B6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2E0-A3AA-4D06-A1BE-6098A02DB848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Савка Н.В., учитель истории и обществознания МОУ "Февральская СОШ", 2011г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9616-AB70-4E5A-885D-7D9A0076F27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768240" y="2346480"/>
            <a:ext cx="7766280" cy="30970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"/>
          <p:cNvPicPr/>
          <p:nvPr/>
        </p:nvPicPr>
        <p:blipFill>
          <a:blip r:embed="rId2"/>
          <a:stretch/>
        </p:blipFill>
        <p:spPr>
          <a:xfrm>
            <a:off x="826920" y="-100080"/>
            <a:ext cx="77425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3924360" y="1166760"/>
            <a:ext cx="504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Arial"/>
              </a:rPr>
              <a:t>С конца </a:t>
            </a:r>
            <a:r>
              <a:rPr b="0" lang="en-US" sz="2000" spc="-1" strike="noStrike">
                <a:solidFill>
                  <a:srgbClr val="073c65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73c65"/>
                </a:solidFill>
                <a:latin typeface="Arial"/>
              </a:rPr>
              <a:t>в. Россия активизировала свою внешнюю политику на Дальнем Востоке. В Северо-Восточном Китае (Маньчжурии) она построила Китайско-Восточную железную дорогу. Город Порт-Артур, расположенный недалеко от Пекина, стал крупнейшей военно-морской базой России. Интересы России в этом регионе столкнулись с интересами Японии, которая претендовала на господство в Северо-Восточном Китае и Корее. В результате соперничество двух держав привело к резкому обострению российско-японских отношений, а затем и к русско-японской во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File:Transmanchuriano.png"/>
          <p:cNvPicPr/>
          <p:nvPr/>
        </p:nvPicPr>
        <p:blipFill>
          <a:blip r:embed="rId2"/>
          <a:stretch/>
        </p:blipFill>
        <p:spPr>
          <a:xfrm>
            <a:off x="108000" y="1197000"/>
            <a:ext cx="3770280" cy="2041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20px-Chinese_Eastern_Railway-ru"/>
          <p:cNvPicPr/>
          <p:nvPr/>
        </p:nvPicPr>
        <p:blipFill>
          <a:blip r:embed="rId3"/>
          <a:stretch/>
        </p:blipFill>
        <p:spPr>
          <a:xfrm>
            <a:off x="250920" y="3645000"/>
            <a:ext cx="3504960" cy="305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File:Порт Артур. Внутренний восточный бассейн.jpg"/>
          <p:cNvPicPr/>
          <p:nvPr/>
        </p:nvPicPr>
        <p:blipFill>
          <a:blip r:embed="rId4"/>
          <a:stretch/>
        </p:blipFill>
        <p:spPr>
          <a:xfrm>
            <a:off x="0" y="1052640"/>
            <a:ext cx="3895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4067280" y="1166760"/>
            <a:ext cx="489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В ночь на 27 января </a:t>
            </a:r>
            <a:r>
              <a:rPr b="1" lang="ru-RU" sz="2400" spc="-1" strike="noStrike">
                <a:solidFill>
                  <a:srgbClr val="073c65"/>
                </a:solidFill>
                <a:latin typeface="Arial"/>
              </a:rPr>
              <a:t>1904 г. </a:t>
            </a: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японские миноносцы внезапно напали на русскую военную эскадру в корейском порту Чемульпо. Крейсер «Варяг» и корабль «Кореец», приняв неравный бой, мужественно сражались с японской эскадрой, но прорваться из окружения не смогли. Оба корабля были затоплены командами. Одновременно нападению японского флота подверглись корабли Тихоокеанской эскадры, стоявшие на рейде Порт-Ар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File:Variag 1904.jpg"/>
          <p:cNvPicPr/>
          <p:nvPr/>
        </p:nvPicPr>
        <p:blipFill>
          <a:blip r:embed="rId2"/>
          <a:stretch/>
        </p:blipFill>
        <p:spPr>
          <a:xfrm>
            <a:off x="0" y="112536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5"/>
          <p:cNvSpPr/>
          <p:nvPr/>
        </p:nvSpPr>
        <p:spPr>
          <a:xfrm>
            <a:off x="0" y="3068640"/>
            <a:ext cx="4038480" cy="533520"/>
          </a:xfrm>
          <a:prstGeom prst="rect">
            <a:avLst/>
          </a:prstGeom>
          <a:solidFill>
            <a:srgbClr val="e4ab8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Варя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4" descr="Koreets.jpg"/>
          <p:cNvPicPr/>
          <p:nvPr/>
        </p:nvPicPr>
        <p:blipFill>
          <a:blip r:embed="rId3"/>
          <a:stretch/>
        </p:blipFill>
        <p:spPr>
          <a:xfrm>
            <a:off x="0" y="3645000"/>
            <a:ext cx="3962520" cy="26146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6093000"/>
            <a:ext cx="4038480" cy="533160"/>
          </a:xfrm>
          <a:prstGeom prst="rect">
            <a:avLst/>
          </a:prstGeom>
          <a:solidFill>
            <a:srgbClr val="e4ab8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Коре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4067280" y="1166760"/>
            <a:ext cx="489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Arial"/>
              </a:rPr>
              <a:t>Японские войска высадились в Корее и на территории Китая. В июне 1904 г. началась героическая оборона осажденного Порт-Артура, продолжавшаяся 6 месяцев. За время осады японцы потеряли свыше 110 тыс. человек. Однако генерал А. М. Стессель, нарушив приказ командования, сдал Порт-Артур в декабре  190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порт-Артур"/>
          <p:cNvPicPr/>
          <p:nvPr/>
        </p:nvPicPr>
        <p:blipFill>
          <a:blip r:embed="rId2"/>
          <a:stretch/>
        </p:blipFill>
        <p:spPr>
          <a:xfrm>
            <a:off x="179280" y="1268280"/>
            <a:ext cx="3827520" cy="234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3" name="Picture 8" descr="300px-Formation_of_a_division_of_the_Japanese_1st"/>
          <p:cNvPicPr/>
          <p:nvPr/>
        </p:nvPicPr>
        <p:blipFill>
          <a:blip r:embed="rId3"/>
          <a:stretch/>
        </p:blipFill>
        <p:spPr>
          <a:xfrm>
            <a:off x="179280" y="4076640"/>
            <a:ext cx="3924360" cy="221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Anatoly-stessel.jpg"/>
          <p:cNvPicPr/>
          <p:nvPr/>
        </p:nvPicPr>
        <p:blipFill>
          <a:blip r:embed="rId4"/>
          <a:stretch/>
        </p:blipFill>
        <p:spPr>
          <a:xfrm>
            <a:off x="7020000" y="4005360"/>
            <a:ext cx="1747800" cy="27082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5003640" y="6093000"/>
            <a:ext cx="2167200" cy="393480"/>
          </a:xfrm>
          <a:prstGeom prst="rect">
            <a:avLst/>
          </a:prstGeom>
          <a:solidFill>
            <a:srgbClr val="e4ab8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М. Сте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324000" y="116676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Arial"/>
              </a:rPr>
              <a:t>Решающее сражение русско-японской войны произошло в начале 1905 г. под Мукденом в Китае. Из-за бездарности высшего командования русская армия потеряла 89 тыс. человек убитыми, ранеными и взятыми в плен. Крайне неудачным для России стало морское сражение при Цусиме. В ходе сражения в мае 1905 г. русский флот был полностью уничтожен. Мукденская и цусимская катастрофы потрясли Россию, вызвали волну ненависти к царю и прав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alternathistory.org.ua/files/users/user2388/59561666_x1p39_.jpg"/>
          <p:cNvPicPr/>
          <p:nvPr/>
        </p:nvPicPr>
        <p:blipFill>
          <a:blip r:embed="rId2"/>
          <a:stretch/>
        </p:blipFill>
        <p:spPr>
          <a:xfrm>
            <a:off x="395280" y="3500280"/>
            <a:ext cx="6095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ufo-new.ru/uploads/posts/2010-07/1278676046_rus_jap_2.jpg"/>
          <p:cNvPicPr/>
          <p:nvPr/>
        </p:nvPicPr>
        <p:blipFill>
          <a:blip r:embed="rId2"/>
          <a:stretch/>
        </p:blipFill>
        <p:spPr>
          <a:xfrm>
            <a:off x="0" y="0"/>
            <a:ext cx="4876920" cy="67438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4932360" y="1197000"/>
            <a:ext cx="3887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rebuchet MS"/>
              </a:rPr>
              <a:t>Причины поражения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  <a:ea typeface="Arial"/>
              </a:rPr>
              <a:t>экономическая и военно-техническая отсталость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  <a:ea typeface="Arial"/>
              </a:rPr>
              <a:t>плохое материально-техническое обеспечение арм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  <a:ea typeface="Arial"/>
              </a:rPr>
              <a:t>некомпетентность русского команд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  <a:ea typeface="Arial"/>
              </a:rPr>
              <a:t>недооценка против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  <a:ea typeface="Arial"/>
              </a:rPr>
              <a:t>помощь Японии со стороны Англии и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73c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Русско-японская 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79280" y="116676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Русско-японская война завершилась подписание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ртсмутского мирного договора </a:t>
            </a: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в август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905 г.</a:t>
            </a:r>
            <a:r>
              <a:rPr b="1" lang="ru-RU" sz="2400" spc="-1" strike="noStrike">
                <a:solidFill>
                  <a:srgbClr val="073c6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73c65"/>
                </a:solidFill>
                <a:latin typeface="Arial"/>
              </a:rPr>
              <a:t>По его условиям Россия передала Японии Южный Сахалин, уступила ей права на аренду Ляодунского полуострова с городами Порт-Артур и Дальний, признала Корею сферой влияния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ажение России в войне с Японией было воспринято русским обществом как национальный позор и стало одной из причин революции 1905-19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://img1.liveinternet.ru/images/attach/c/0/38/251/38251438_ijn_mikasa_underfire.jpg"/>
          <p:cNvPicPr/>
          <p:nvPr/>
        </p:nvPicPr>
        <p:blipFill>
          <a:blip r:embed="rId2"/>
          <a:stretch/>
        </p:blipFill>
        <p:spPr>
          <a:xfrm>
            <a:off x="6645240" y="4849920"/>
            <a:ext cx="2498760" cy="2008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alternathistory.org.ua/files/users/user3578/%20%D0%B2%20%D0%A6%D1%83%D1%81%D0%B8%D0%BC%D1%81%D0%BA%D0%BE%D0%BC%20%D1%81%D1%80%D0%B0%D0%B6%D0%B5%D0%BD%D0%B8%D0%B8.jpg"/>
          <p:cNvPicPr/>
          <p:nvPr/>
        </p:nvPicPr>
        <p:blipFill>
          <a:blip r:embed="rId3"/>
          <a:stretch/>
        </p:blipFill>
        <p:spPr>
          <a:xfrm>
            <a:off x="611280" y="4913280"/>
            <a:ext cx="243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1042920" y="-128520"/>
            <a:ext cx="7583400" cy="1317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95280" y="90792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3c65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 1897 г. в России прожива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А) 128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Б) 137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) 105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2. Модернизация – это пере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А) от традиционного общества к обществу индустриа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Б) от индустриального общества к постиндустриа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) от индустриального общества к традицион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3. Во главе Российского государства стоя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А) Государственны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Б) Се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) Им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"/>
          <p:cNvSpPr/>
          <p:nvPr/>
        </p:nvSpPr>
        <p:spPr>
          <a:xfrm>
            <a:off x="611280" y="476280"/>
            <a:ext cx="8137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4. Привилегированное сословие в конце 19 века:</a:t>
            </a:r>
            <a:br>
              <a:rPr sz="2000"/>
            </a:b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А) Мещ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Б)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) Кресть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5. Наиболее могущественная с экономической точки зрения социальная группа в начале </a:t>
            </a:r>
            <a:r>
              <a:rPr b="0" lang="en-US" sz="2000" spc="-1" strike="noStrike">
                <a:solidFill>
                  <a:srgbClr val="073c65"/>
                </a:solidFill>
                <a:latin typeface="Trebuchet MS"/>
              </a:rPr>
              <a:t>XX </a:t>
            </a: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А) Купе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Б) Буржу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)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Г) Интеллиг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539640" y="458136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c65"/>
                </a:solidFill>
                <a:latin typeface="Trebuchet MS"/>
              </a:rPr>
              <a:t>Задание 3 на с. 1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78440" cy="1316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1143000" y="73188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§ 20, термины, задания после параграф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803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чему революционеров 1870-х гг. называли народниками? Какие идеалы они проповедова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Назовите направления русского народничества и перечислите какими путями каждое из них хотело добиться це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В какие организации объединились народник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Дайте оценку внутренней политики Александра</a:t>
            </a: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 III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Как развивалось рабочее движение после реформы1861 г.?    О чем свидетельствовало создание РСДРП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Расшифруйте аббревиатуру РСДРП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оссийска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оциал-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Д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емократическа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абоча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артия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71360" y="103320"/>
            <a:ext cx="5467320" cy="10126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5724360" y="0"/>
            <a:ext cx="324972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img.aucland.ru/market-photos/227/oV2msi.jpg"/>
          <p:cNvPicPr/>
          <p:nvPr/>
        </p:nvPicPr>
        <p:blipFill>
          <a:blip r:embed="rId3"/>
          <a:stretch/>
        </p:blipFill>
        <p:spPr>
          <a:xfrm>
            <a:off x="5867280" y="3789360"/>
            <a:ext cx="2989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2124000" y="-171360"/>
            <a:ext cx="4789440" cy="145872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792440" y="4108320"/>
            <a:ext cx="6918120" cy="20242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 МОУ "Февральская СОШ", 2011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1197000"/>
          <a:ext cx="8713800" cy="548316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ара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ее 22 млн км (второе место в мире после Брит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дминистративное 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убернии и области, автономная Финля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с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ее 128 млн чело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циональный 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ее 100 народов и народ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67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ли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вославие, старообрядчество, католицизм, протестантизм, ислам, буддизм, иудаизм, 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250920" y="404640"/>
            <a:ext cx="63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c65"/>
                </a:solidFill>
                <a:latin typeface="Trebuchet MS"/>
              </a:rPr>
              <a:t>Россия существенно отставала от развитых европейских стран в технологическом отнош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3635280" y="2133720"/>
            <a:ext cx="518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Trebuchet MS"/>
              </a:rPr>
              <a:t>В 1894 г. на престол взошел последний российский император </a:t>
            </a:r>
            <a:r>
              <a:rPr b="0" i="1" lang="ru-RU" sz="2400" spc="-1" strike="noStrike">
                <a:solidFill>
                  <a:srgbClr val="073c65"/>
                </a:solidFill>
                <a:latin typeface="Trebuchet MS"/>
              </a:rPr>
              <a:t>Николай </a:t>
            </a:r>
            <a:r>
              <a:rPr b="0" i="1" lang="en-US" sz="2400" spc="-1" strike="noStrike">
                <a:solidFill>
                  <a:srgbClr val="073c65"/>
                </a:solidFill>
                <a:latin typeface="Trebuchet MS"/>
              </a:rPr>
              <a:t>II</a:t>
            </a:r>
            <a:r>
              <a:rPr b="0" i="1" lang="ru-RU" sz="2400" spc="-1" strike="noStrike">
                <a:solidFill>
                  <a:srgbClr val="073c65"/>
                </a:solidFill>
                <a:latin typeface="Trebuchet MS"/>
              </a:rPr>
              <a:t>.</a:t>
            </a:r>
            <a:r>
              <a:rPr b="0" i="1" lang="en-US" sz="2400" spc="-1" strike="noStrike">
                <a:solidFill>
                  <a:srgbClr val="073c65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73c65"/>
                </a:solidFill>
                <a:latin typeface="Trebuchet MS"/>
              </a:rPr>
              <a:t>Его царствование началось с трагедии. Во время пышной корона проходившей на Ходынском поле в Москве в страшной давке погибло более тысячи человек. Это было плохим предзнаменованием. «С чего началось правление Николая </a:t>
            </a:r>
            <a:r>
              <a:rPr b="0" lang="en-US" sz="2400" spc="-1" strike="noStrike">
                <a:solidFill>
                  <a:srgbClr val="073c65"/>
                </a:solidFill>
                <a:latin typeface="Trebuchet MS"/>
              </a:rPr>
              <a:t>II </a:t>
            </a:r>
            <a:r>
              <a:rPr b="0" lang="ru-RU" sz="2400" spc="-1" strike="noStrike">
                <a:solidFill>
                  <a:srgbClr val="073c65"/>
                </a:solidFill>
                <a:latin typeface="Trebuchet MS"/>
              </a:rPr>
              <a:t>— тем и закончится», — говорили русские революцио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hrono.ru/img/monarhi/nikolay2.jpg"/>
          <p:cNvPicPr/>
          <p:nvPr/>
        </p:nvPicPr>
        <p:blipFill>
          <a:blip r:embed="rId2"/>
          <a:stretch/>
        </p:blipFill>
        <p:spPr>
          <a:xfrm>
            <a:off x="324000" y="2133720"/>
            <a:ext cx="30956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хема 2" descr=""/>
          <p:cNvPicPr/>
          <p:nvPr/>
        </p:nvPicPr>
        <p:blipFill>
          <a:blip r:embed="rId1"/>
          <a:stretch/>
        </p:blipFill>
        <p:spPr>
          <a:xfrm>
            <a:off x="324000" y="725400"/>
            <a:ext cx="8643960" cy="613260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4" descr=""/>
          <p:cNvPicPr/>
          <p:nvPr/>
        </p:nvPicPr>
        <p:blipFill>
          <a:blip r:embed="rId2"/>
          <a:stretch/>
        </p:blipFill>
        <p:spPr>
          <a:xfrm>
            <a:off x="6480" y="-371520"/>
            <a:ext cx="7583400" cy="1316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183672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58920" y="1700280"/>
          <a:ext cx="8640720" cy="4862520"/>
        </p:xfrm>
        <a:graphic>
          <a:graphicData uri="http://schemas.openxmlformats.org/drawingml/2006/table">
            <a:tbl>
              <a:tblPr/>
              <a:tblGrid>
                <a:gridCol w="3054240"/>
                <a:gridCol w="5586480"/>
              </a:tblGrid>
              <a:tr h="162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эконом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днее начало модернизации, необходимость догонять развитые страны в короткие сроки. Инициатива и контроль государства. Преимущественное развитие отраслей тяжелой промышлен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политическ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самодержавия, отсутствие политических партий, гражданских прав и свобод насел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d8cc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оциальн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сословного строя, не отражающего экономического положения. Появление классов буржуазного общества, размывание сословий и сословных перегородок. Развитие меценатства, просветительской деятельности буржуаз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553440" cy="13906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8244000" y="755640"/>
            <a:ext cx="6858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1294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95280" y="1773360"/>
          <a:ext cx="8424720" cy="4903560"/>
        </p:xfrm>
        <a:graphic>
          <a:graphicData uri="http://schemas.openxmlformats.org/drawingml/2006/table">
            <a:tbl>
              <a:tblPr/>
              <a:tblGrid>
                <a:gridCol w="2978280"/>
                <a:gridCol w="5446440"/>
              </a:tblGrid>
              <a:tr h="136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эконом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дернизация требовала напряжения всех сил государства, не развивалась и не имела государственной поддержки легкая промыш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ce8e8"/>
                    </a:solidFill>
                  </a:tcPr>
                </a:tc>
              </a:tr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политическ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итический строй не соответствовал требованиям времени и нуждам государства: производящие богатство государства классы не имели политических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acfcc"/>
                    </a:solidFill>
                  </a:tcPr>
                </a:tc>
              </a:tr>
              <a:tr h="1923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оциальн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сословного строя не отражало реальное экономическое положение слоев населения. Нищета рабочих и крестьян, сохранение остатков крепостничества  представляло собой угрозу социального взры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14124"/>
                      </a:solidFill>
                    </a:lnL>
                    <a:lnR w="5760">
                      <a:solidFill>
                        <a:srgbClr val="f14124"/>
                      </a:solidFill>
                    </a:lnR>
                    <a:lnT w="5760">
                      <a:solidFill>
                        <a:srgbClr val="f14124"/>
                      </a:solidFill>
                    </a:lnT>
                    <a:lnB w="5760">
                      <a:solidFill>
                        <a:srgbClr val="f14124"/>
                      </a:solidFill>
                    </a:lnB>
                    <a:solidFill>
                      <a:srgbClr val="fce8e8"/>
                    </a:solidFill>
                  </a:tcPr>
                </a:tc>
              </a:tr>
            </a:tbl>
          </a:graphicData>
        </a:graphic>
      </p:graphicFrame>
      <p:pic>
        <p:nvPicPr>
          <p:cNvPr id="236" name="Рисунок 2" descr=""/>
          <p:cNvPicPr/>
          <p:nvPr/>
        </p:nvPicPr>
        <p:blipFill>
          <a:blip r:embed="rId2"/>
          <a:stretch/>
        </p:blipFill>
        <p:spPr>
          <a:xfrm>
            <a:off x="8244000" y="755640"/>
            <a:ext cx="6858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2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5534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611280" y="1413000"/>
          <a:ext cx="8281800" cy="4895640"/>
        </p:xfrm>
        <a:graphic>
          <a:graphicData uri="http://schemas.openxmlformats.org/drawingml/2006/table">
            <a:tbl>
              <a:tblPr/>
              <a:tblGrid>
                <a:gridCol w="2927160"/>
                <a:gridCol w="5354640"/>
              </a:tblGrid>
              <a:tr h="141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эконом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eaf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вершение модернизации в короткие сроки, создание мощной экономики, являющейся основой  могущества государ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eaf6fd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политическ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квидация самодержавия, разделение ветвей власти, создание представительского органа (парламента), наделение граждан правами и свобод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социальной сф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eaf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квидация сословного деления и связанных с ним привилегий дворянства. Улучшение положения рабочих и крестьян. Уничтожение остатков крепостниче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eccf3"/>
                      </a:solidFill>
                    </a:lnL>
                    <a:lnR w="5760">
                      <a:solidFill>
                        <a:srgbClr val="5eccf3"/>
                      </a:solidFill>
                    </a:lnR>
                    <a:lnT w="5760">
                      <a:solidFill>
                        <a:srgbClr val="5eccf3"/>
                      </a:solidFill>
                    </a:lnT>
                    <a:lnB w="5760">
                      <a:solidFill>
                        <a:srgbClr val="5eccf3"/>
                      </a:solidFill>
                    </a:lnB>
                    <a:solidFill>
                      <a:srgbClr val="eaf6fd"/>
                    </a:solidFill>
                  </a:tcPr>
                </a:tc>
              </a:tr>
            </a:tbl>
          </a:graphicData>
        </a:graphic>
      </p:graphicFrame>
      <p:pic>
        <p:nvPicPr>
          <p:cNvPr id="239" name="Рисунок 2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68400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36720" cy="560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"/>
          <p:cNvSpPr/>
          <p:nvPr/>
        </p:nvSpPr>
        <p:spPr>
          <a:xfrm>
            <a:off x="250920" y="40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c65"/>
                </a:solidFill>
                <a:latin typeface="Trebuchet MS"/>
              </a:rPr>
              <a:t>Внешняя поли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4356000" y="1444680"/>
            <a:ext cx="439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На рубеже </a:t>
            </a:r>
            <a:r>
              <a:rPr b="0" lang="en-US" sz="2000" spc="-1" strike="noStrike">
                <a:solidFill>
                  <a:srgbClr val="073c65"/>
                </a:solidFill>
                <a:latin typeface="Trebuchet MS"/>
              </a:rPr>
              <a:t>XIX</a:t>
            </a: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—</a:t>
            </a:r>
            <a:r>
              <a:rPr b="0" lang="en-US" sz="2000" spc="-1" strike="noStrike">
                <a:solidFill>
                  <a:srgbClr val="073c65"/>
                </a:solidFill>
                <a:latin typeface="Trebuchet MS"/>
              </a:rPr>
              <a:t>XX </a:t>
            </a:r>
            <a:r>
              <a:rPr b="0" lang="ru-RU" sz="2000" spc="-1" strike="noStrike">
                <a:solidFill>
                  <a:srgbClr val="073c65"/>
                </a:solidFill>
                <a:latin typeface="Trebuchet MS"/>
              </a:rPr>
              <a:t>вв. усилилась борьба великих держав за передел мира. В 1907 г. был заключен договор между Россией и Великобританией. Этим союзом был окончательно оформлен блок Антанта, противостоявший Тройственному союзу. Несмотря на имевшиеся разногласия, Англия и Россия договорились о разделе сфер влияния в Иране и Афганистане, что предопределило участие России в будущей мировой войне на стороне Великобритании и 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images.myshared.ru/427220/slide_13.jpg"/>
          <p:cNvPicPr/>
          <p:nvPr/>
        </p:nvPicPr>
        <p:blipFill>
          <a:blip r:embed="rId2"/>
          <a:stretch/>
        </p:blipFill>
        <p:spPr>
          <a:xfrm>
            <a:off x="468360" y="393372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diletant.ru/upload/images/02(3).jpg"/>
          <p:cNvPicPr/>
          <p:nvPr/>
        </p:nvPicPr>
        <p:blipFill>
          <a:blip r:embed="rId3"/>
          <a:stretch/>
        </p:blipFill>
        <p:spPr>
          <a:xfrm>
            <a:off x="2411280" y="1197000"/>
            <a:ext cx="1603440" cy="2508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t1.gstatic.com/images?q=tbn:ANd9GcTSi9Lq8QqplPaWA6Mp0Wn4ZnWXkgd_lGejjELr7CmffYFHrWsDhA"/>
          <p:cNvPicPr/>
          <p:nvPr/>
        </p:nvPicPr>
        <p:blipFill>
          <a:blip r:embed="rId4"/>
          <a:stretch/>
        </p:blipFill>
        <p:spPr>
          <a:xfrm>
            <a:off x="395280" y="1268280"/>
            <a:ext cx="16556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1:52:25Z</dcterms:created>
  <dc:creator>SamLab.ws</dc:creator>
  <dc:description/>
  <dc:language>en-US</dc:language>
  <cp:lastModifiedBy>Dmitriy Petkun</cp:lastModifiedBy>
  <dcterms:modified xsi:type="dcterms:W3CDTF">2016-01-12T17:53:07Z</dcterms:modified>
  <cp:revision>36</cp:revision>
  <dc:subject/>
  <dc:title>Государство и российское общество в конце XIX – начале  XXв.</dc:title>
</cp:coreProperties>
</file>